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1DC-7F04-4E75-A94B-9E4C5FB4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135-343A-40B4-95DE-740E8F2D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D46-00F9-4059-9AD9-C6DBEED7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E66-AD41-42E3-8F48-ABB629CC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10C8-C628-4354-9434-4C601980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7291-3229-44D9-B550-70195796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972B-A697-4001-B294-7FC4FF81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776-9EE2-419A-AE28-9733EA6D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DCFF-50B8-40E0-8122-F83F089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3E59-3D0A-4EFC-B332-06198A45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04A6-DA88-431D-94E1-AA5CB18F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597-284A-4F3B-97A9-65D57DB5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4D8-BCBF-428A-998A-78E4B672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A24A-D028-4186-8F1E-340362A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3B25-F073-4CBE-AB72-2BDA9E8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CCC4-4E7D-44AB-BCEF-CA1E8FA6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95AC-780E-40DF-B143-058046C1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78D-0235-4F37-AF86-06028D2D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A23-F81A-4F89-8E88-C5D6E27F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C2E-3B68-4DD5-A0E0-DC68C6CE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E64-6CEE-476F-9483-0433A609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F25-6A05-4E99-9D96-0F13636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7DC-659E-4B7D-9395-097D4967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68D-AF04-4421-82E6-1A9C533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9D33-DDDC-49AE-9BAE-4E8CB24AB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8409-DBE3-425C-BCE1-358F889E5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MSG-1 – The Challenges!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vid Tay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tSignal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nbur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ceiving Meteosat-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ower-amplifier broken (of fo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dissemination via DVB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Digital TV from satel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s are data rather than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ast – if you miss a file, it’s l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a dish, LNB and a card in your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learn by receiving ATOVS data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Gremlin in MSG-1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2002-09-06-0925-52-a" descr=""/>
          <p:cNvPicPr/>
          <p:nvPr/>
        </p:nvPicPr>
        <p:blipFill>
          <a:blip r:embed="rId1"/>
          <a:stretch/>
        </p:blipFill>
        <p:spPr>
          <a:xfrm>
            <a:off x="1447920" y="131436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DVB Reception Hardwa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VB – Digital Video Broadc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h – 88cm ty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GHz – so needs accurate point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B – RF amplifier, LO and mix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ble carries 1GHz rang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 in P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dulates IF to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LNB oscillator band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DVB – Typical Install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ld-and-new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7913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DVB – Low-Noise Bloc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nb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VB Reception - Softwa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iv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lied with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decoding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-Systems (Telliq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s username/password from file you 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B dongle for “encrypted”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le decoding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VS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SG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DVB – Software setup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etup-screenshot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3090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DVB – Software setup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stats-screenshot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1038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DVB – Software setup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q-screenshot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8929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C Requirem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your main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C to be dedicated to data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tworked to processing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 volt PCI slot for SkyStar 2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OVS – 700MHz CPU / 512MB 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SG-1 – 2 GHz P4 / 1GB RAM / dis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you bend the r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day’s Tal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SG-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I need to receive MSG-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to WEFAX/PD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LRIT/HR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hardware implic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MSG-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data – 2GB/hour uncom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provision for data subset on DV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do you want to kee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ch chann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on subs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ll resolution visible image is 62MPixels, that’s 186MB in 24-bit colou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SG-2 in the futu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tibility at the fil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hardware for direct re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SG Data Manager – Screensho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reader-screenshot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4008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SG Data Manager – Performa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GHz PC  ( 2GHz recomme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2MB RAM  (1GB recomme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time for all 12 MSG-1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inutes to read and decompres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seconds to save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was 814 files, 64.4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 was 12 image files, 35.1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G or JPEG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SG-1 trials are here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w hardware and software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ve learned with ATO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complex – but no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ssive amount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ed to learn how to manage th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umet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king sample data and decoding softw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you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your support over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dividuals in R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oing so much for the h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tiating with Eumetsat and RF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low-cost hardw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Your Question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hat is MSG-1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w satellite covering Europe and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laces Meteosat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gher resolution – more 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atmospheric detail – more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ster scanning – better movement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ly in commissioning trials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ransmission Differ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information to 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accuracy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digital not an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full professional needs with H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less demanding needs with L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oth lossy and lossless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are HRIT and LRI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Rate Image Transmission – 1-2 Mb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Rate Image Transmission – 128Kb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continuous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d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OSI Seven Layer Mod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s processing into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interface between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going down the lay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image the right way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mbling imag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ressing, e.g. J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ata Views – Top-dow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an image built 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orizontal str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eed many strips per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rip lost doesn’t loose whole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mage strip is a single computer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split into packets for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Data Views – Bottom U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SK signal from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dulated digit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d-Solomon 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s to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ed into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New Processing Challeng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ate is 2GB/hour – what to do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8-, 10- and 12-bit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you going to display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PEG is 8-bit and 12-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have 12-bit JPEG soft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is JPEG and Wavelet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have wavelet transform soft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may use a different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have working RICE-transform soft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5:32:22Z</dcterms:created>
  <dc:creator>David J. Taylor</dc:creator>
  <dc:description/>
  <dc:language>en-US</dc:language>
  <cp:lastModifiedBy>David J. Taylor</cp:lastModifiedBy>
  <dcterms:modified xsi:type="dcterms:W3CDTF">2003-05-05T05:42:58Z</dcterms:modified>
  <cp:revision>53</cp:revision>
  <dc:subject/>
  <dc:title>Satellite Software</dc:title>
</cp:coreProperties>
</file>